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zapbig0g.wav" ContentType="audio/x-wav"/>
  <Override PartName="/ppt/media/image7.wmf" ContentType="image/x-wmf"/>
  <Override PartName="/ppt/media/image11.wmf" ContentType="image/x-wmf"/>
  <Override PartName="/ppt/media/image6.wmf" ContentType="image/x-wmf"/>
  <Override PartName="/ppt/media/camera.wav" ContentType="audio/x-wav"/>
  <Override PartName="/ppt/media/image5.wmf" ContentType="image/x-wmf"/>
  <Override PartName="/ppt/media/image10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D5C-3338-410C-A26C-8E915648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E07-E4A7-4FF8-9EC2-9ABA2A3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C80-6399-47DA-8894-D61A357F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4DA-9025-466C-8210-1D702D5C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225-059C-49B7-AD3D-41E1F43E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5D5-95A4-4D4D-9A23-D475A982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CBF-A2F1-4CAE-A67E-B033F2ED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914-8759-4D46-8737-7668F0BA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A99-CD09-4E1E-829A-55D8E23C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D93-000C-48C0-9F12-F548029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149-A0AD-4A2C-9DAE-D740D2D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B47-C956-4E67-B362-9B34A3F7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2C5F-B28A-4254-B18E-B7F2309D1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zapbig0g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1676520"/>
            <a:ext cx="8686800" cy="4873680"/>
            <a:chOff x="228600" y="1676520"/>
            <a:chExt cx="8686800" cy="4873680"/>
          </a:xfrm>
        </p:grpSpPr>
        <p:sp>
          <p:nvSpPr>
            <p:cNvPr id="42" name=""/>
            <p:cNvSpPr/>
            <p:nvPr/>
          </p:nvSpPr>
          <p:spPr>
            <a:xfrm>
              <a:off x="228600" y="1676520"/>
              <a:ext cx="8686800" cy="48736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3280" y="3171960"/>
              <a:ext cx="865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9120" y="4608360"/>
              <a:ext cx="865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ynomial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676520"/>
            <a:ext cx="571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egree of a term in a polynom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 exponent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273720" y="1703520"/>
          <a:ext cx="243216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1703520"/>
                    <a:ext cx="243216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381720" y="244944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02520" y="1741320"/>
          <a:ext cx="225252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2520" y="1741320"/>
                    <a:ext cx="22525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378480" y="2409840"/>
            <a:ext cx="2100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483240" y="1762200"/>
          <a:ext cx="1846440" cy="13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83240" y="1762200"/>
                    <a:ext cx="184644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491160" y="2425680"/>
            <a:ext cx="2100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3325680"/>
            <a:ext cx="571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egree of a polynom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 largest degree of its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62640" y="3192480"/>
          <a:ext cx="2432160" cy="13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2640" y="3192480"/>
                    <a:ext cx="24321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662880" y="3919680"/>
            <a:ext cx="2100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54600" y="3209760"/>
          <a:ext cx="3017880" cy="135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54600" y="3209760"/>
                    <a:ext cx="301788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08640" y="3916440"/>
            <a:ext cx="2100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600" y="4665600"/>
            <a:ext cx="571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Standard form of a polynom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when the terms are placed in descending order, from largest degree to smallest deg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772240" y="4799160"/>
          <a:ext cx="2820960" cy="14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2240" y="4799160"/>
                    <a:ext cx="282096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765760" y="5568840"/>
          <a:ext cx="2789280" cy="61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65760" y="5568840"/>
                    <a:ext cx="278928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616720" y="4834080"/>
          <a:ext cx="3243240" cy="141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16720" y="4834080"/>
                    <a:ext cx="32432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613480" y="5603760"/>
          <a:ext cx="3206520" cy="617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13480" y="5603760"/>
                    <a:ext cx="3206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47560" y="1644480"/>
                <a:ext cx="7662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4" name=""/>
          <p:cNvGraphicFramePr/>
          <p:nvPr/>
        </p:nvGraphicFramePr>
        <p:xfrm>
          <a:off x="2889360" y="1636560"/>
          <a:ext cx="143172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1636560"/>
                    <a:ext cx="1431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01680" y="2481120"/>
                <a:ext cx="1624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33280" y="1133640"/>
            <a:ext cx="89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sum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17560" y="1743120"/>
                <a:ext cx="1098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18040" y="1782720"/>
                <a:ext cx="1220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718080" y="2744640"/>
                <a:ext cx="1120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3" name=""/>
          <p:cNvGraphicFramePr/>
          <p:nvPr/>
        </p:nvGraphicFramePr>
        <p:xfrm>
          <a:off x="6170760" y="1612800"/>
          <a:ext cx="1166760" cy="7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0760" y="1612800"/>
                    <a:ext cx="11667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33440" y="1781280"/>
                <a:ext cx="488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165800" y="1778040"/>
                <a:ext cx="87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32280" y="2608200"/>
                <a:ext cx="1063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49360" y="3898800"/>
                <a:ext cx="71834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9" name=""/>
          <p:cNvGraphicFramePr/>
          <p:nvPr/>
        </p:nvGraphicFramePr>
        <p:xfrm>
          <a:off x="2886120" y="3871800"/>
          <a:ext cx="1431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86120" y="3871800"/>
                    <a:ext cx="1431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47840" y="4792680"/>
                <a:ext cx="16797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17680" y="3976560"/>
                <a:ext cx="718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273640" y="4100400"/>
                <a:ext cx="977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41840" y="4894200"/>
                <a:ext cx="1457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6153120" y="3865680"/>
          <a:ext cx="1432080" cy="76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3120" y="3865680"/>
                    <a:ext cx="14320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049480" y="4033800"/>
                <a:ext cx="87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18040" y="4033800"/>
                <a:ext cx="341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32440" y="489276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4560" y="3857760"/>
                <a:ext cx="75675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4983120" y="4103640"/>
          <a:ext cx="58428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3120" y="4103640"/>
                    <a:ext cx="584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411800" y="4054320"/>
          <a:ext cx="58392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1800" y="4054320"/>
                    <a:ext cx="5839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161120" y="3983040"/>
          <a:ext cx="58428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1120" y="3983040"/>
                    <a:ext cx="584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284880" y="4021200"/>
          <a:ext cx="58428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84880" y="4021200"/>
                    <a:ext cx="584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22160" y="1682640"/>
                <a:ext cx="64184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006800" y="1870200"/>
          <a:ext cx="584280" cy="40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06800" y="1870200"/>
                    <a:ext cx="584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532320" y="1860480"/>
          <a:ext cx="58392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2320" y="1860480"/>
                    <a:ext cx="5839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667400" y="1846440"/>
          <a:ext cx="583920" cy="407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7400" y="1846440"/>
                    <a:ext cx="583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15000" y="1865160"/>
          <a:ext cx="58428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15000" y="1865160"/>
                    <a:ext cx="584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637000" y="2674800"/>
                <a:ext cx="1174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33280" y="1133640"/>
            <a:ext cx="89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difference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65280" y="1930320"/>
                <a:ext cx="4651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8320" y="1819440"/>
                <a:ext cx="1220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610080" y="2776680"/>
                <a:ext cx="1455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5797440" y="1652760"/>
          <a:ext cx="1166760" cy="765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97440" y="1652760"/>
                    <a:ext cx="11667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21280" y="1800360"/>
                <a:ext cx="780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975200" y="2801880"/>
                <a:ext cx="895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2925720" y="3813120"/>
          <a:ext cx="1432080" cy="765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25720" y="3813120"/>
                    <a:ext cx="143208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405160" y="4753080"/>
                <a:ext cx="16794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76360" y="3916440"/>
                <a:ext cx="719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03960" y="4041720"/>
                <a:ext cx="977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25800" y="4854600"/>
                <a:ext cx="1401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" name=""/>
          <p:cNvGraphicFramePr/>
          <p:nvPr/>
        </p:nvGraphicFramePr>
        <p:xfrm>
          <a:off x="5043600" y="3807000"/>
          <a:ext cx="1373040" cy="76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43600" y="3807000"/>
                    <a:ext cx="13730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66840" y="3975120"/>
                <a:ext cx="87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122960" y="3954600"/>
                <a:ext cx="8780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89400" y="4853160"/>
                <a:ext cx="1008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2052720" y="1674720"/>
          <a:ext cx="1431720" cy="765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52720" y="1674720"/>
                    <a:ext cx="1431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Polynomials in a Real-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18116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Find a model for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fferenc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in millions of dollars)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any 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ales and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Company 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ales from 1992 to 199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43240" y="2776680"/>
          <a:ext cx="635004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3240" y="2776680"/>
                    <a:ext cx="63500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54160" y="2967120"/>
            <a:ext cx="22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any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57560" y="4240080"/>
            <a:ext cx="64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49640" y="3394080"/>
                <a:ext cx="65181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5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4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4680" y="4303800"/>
                <a:ext cx="1447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9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06880" y="3595680"/>
                <a:ext cx="512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271440" y="3548160"/>
            <a:ext cx="22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ompany 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977160" y="3554280"/>
                <a:ext cx="512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968720" y="3522600"/>
                <a:ext cx="563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021280" y="4368960"/>
                <a:ext cx="1697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8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31000" y="4365720"/>
                <a:ext cx="1496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CCSS</cp:lastModifiedBy>
  <dcterms:modified xsi:type="dcterms:W3CDTF">2003-01-30T12:24:22Z</dcterms:modified>
  <cp:revision>50</cp:revision>
  <dc:subject/>
  <dc:title>No Slide Title</dc:title>
</cp:coreProperties>
</file>